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E399-A7CC-4F55-B5A9-5D13DB1C9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9806-9C53-4411-A505-032BAB531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0A95-DF18-45AE-926C-5A41958F0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7F49-9019-44B1-9BFA-A4F8D5EE2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9533-6425-4783-9D33-DA06D890EA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BB18-EC32-42DC-A867-58CE0FECCF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6D55-8E05-4C1E-993B-4CA5850A1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765A-CD44-4A2A-A0E6-B920D0492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734F-946C-41F8-93AF-4D6AF21C7D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FF76-E9A6-4580-81A6-813950371A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27FE-0273-455E-857C-963B8DB4C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CA20-F28D-4A27-B977-BBDE28DF6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FC90-0F29-45D0-AB09-8C211997F0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B8E7-8C8A-4DB3-80C9-62BA0F6C3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3D7C-89D1-47AC-8442-09B58096D6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3B35-4738-4A36-8B54-0CBEC321D5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F7E7-A64C-4524-A8DE-9649B9592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B4D8-17FF-4354-85F3-957097E20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ADB7-60F4-4175-B32E-10B95D174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6984-831D-49B8-BBC6-8DD8EF4C4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FC65-A18B-4C42-BFF5-62B73022C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204F-5C20-4AF2-AE8F-42D8297B6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74C2-7794-47CB-A95A-5FF655C81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012E-5E87-4E57-8C74-C58EAA483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1000"/>
          </a:bodyPr>
          <a:p>
            <a:pPr marL="28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28080" algn="ctr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28080" algn="ctr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28080" algn="ctr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28080" algn="ctr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28080" algn="ctr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28080" algn="ctr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49840" y="6404040"/>
            <a:ext cx="3380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54E-AD3A-451D-925E-6086046AD5CC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731880" indent="-285840">
              <a:spcBef>
                <a:spcPts val="799"/>
              </a:spcBef>
              <a:buClr>
                <a:srgbClr val="ffcc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1131840" indent="-228600"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1589040" indent="-228600">
              <a:spcBef>
                <a:spcPts val="799"/>
              </a:spcBef>
              <a:buClr>
                <a:srgbClr val="ffcc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2046240" indent="-228600"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2046240" indent="-228600">
              <a:spcBef>
                <a:spcPts val="799"/>
              </a:spcBef>
              <a:buClr>
                <a:srgbClr val="ffff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2046240" indent="-228600">
              <a:spcBef>
                <a:spcPts val="799"/>
              </a:spcBef>
              <a:buClr>
                <a:srgbClr val="ffff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49840" y="6404040"/>
            <a:ext cx="3380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BC7-A147-46F3-B16B-3D09C335C01B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Lucida Grande"/>
              </a:rPr>
              <a:t>Gender Inequality </a:t>
            </a: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1640" y="3141720"/>
            <a:ext cx="6584760" cy="2495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n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Education” and “Health Care”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John and DM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Lucida Grande"/>
              </a:rPr>
              <a:t>Gender Inequality in Health Care</a:t>
            </a:r>
            <a:endParaRPr b="0" lang="en-US" sz="40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Women were twice as likely as men to die after coronary bypass surgery. Researchers at Cedars-Sinai Medical Center in Los Angeles checked their own records. They found that of 2300 coronary bypass patients, 4.6 percent of the women died as a result of the surgery, compared with 2.6 percent of the men” (Textbook, pg 307)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quote from the textbook can lead to a prediction: Doctors do not take women based surgeries as serious as those of men’s 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EX) Breast Cancer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0"/>
            <a:ext cx="8854920" cy="6742080"/>
            <a:chOff x="0" y="0"/>
            <a:chExt cx="8854920" cy="6742080"/>
          </a:xfrm>
        </p:grpSpPr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854920" cy="67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253240" y="479520"/>
              <a:ext cx="804600" cy="144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36840" y="1716120"/>
              <a:ext cx="1430280" cy="144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4320" y="3681360"/>
              <a:ext cx="895320" cy="146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6480" y="3827520"/>
              <a:ext cx="1252800" cy="146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75400" y="2298600"/>
              <a:ext cx="984240" cy="217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53240" y="5210280"/>
              <a:ext cx="895320" cy="144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2520" y="5065920"/>
              <a:ext cx="625320" cy="144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Lucida Grande"/>
              </a:rPr>
              <a:t>Gender Inequality in Health Care</a:t>
            </a:r>
            <a:endParaRPr b="0" lang="en-US" sz="40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Until 1832, women were not allowed to attend colleges (They had to be silent in assemblies)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owever, the values have been changing over the past few years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Lucida Grande"/>
              </a:rPr>
              <a:t>In Korea</a:t>
            </a: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bortion is available in Korea, and if the operation takes place, it is considered as the women’s fault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449840" y="6404040"/>
            <a:ext cx="3380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41EE-0B52-4CBD-BA92-1F821A0EEF93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9B02-93C6-414C-BED4-6420566881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717480"/>
            <a:ext cx="820728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urprisingly, women now have higher enrollment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Lucida Grande"/>
              </a:rPr>
              <a:t>In Korea</a:t>
            </a:r>
            <a:endParaRPr b="0" lang="en-US" sz="4400" spc="-1" strike="noStrike">
              <a:solidFill>
                <a:srgbClr val="e5ffff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n Korea, many people think that women are capable in studying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owever, there are similar amount of guys in colleges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Gender Inequality </dc:title>
</cp:coreProperties>
</file>